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E08-6F8C-4E59-9302-FDAD5AC3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240-882E-48B2-9C93-68B57444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0F5-3ADA-4333-BDE4-C58E5684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A3C-EA6B-42D7-9DEA-56148569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E7CC-0725-4A5E-9032-84420579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AC7D-DD5B-4176-BD89-C85AB76A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9A0B-3335-47D9-95BA-1601D317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88F2-6CB1-4F05-AFC3-8F4F07A3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6931-2C95-489E-AB13-D8CDC9B0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B9E1-491A-40FA-ADB3-29149FEE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392F-1D1A-4C53-A8F6-B7201467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3C9-091F-4C91-9AD4-4A990588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6991-F673-4976-9DC7-C81EB573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44D8-A2E1-4749-A322-1D65C978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0E90-4ACB-4E6F-9675-C8EDB696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A386-3A8B-4A9F-908F-724C1438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AD54-2303-4E29-A153-E52BEA32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D09-800A-4163-B39E-0D2CDDB2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E42-AACC-4646-9B07-47DFB88B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849-85F3-4548-B256-24E79DC7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BC8-CBAC-4235-BEAC-F8CAE917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503-9CD0-4DC7-A7BB-C9817CB6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D37-E1A8-411A-A319-F23079E4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460-BFA6-4E73-B533-12679115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Jit-compiling in Pic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aul-Henri Van der Steich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2de lic toegepaste informa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iler (con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601956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ifficul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2482920"/>
            <a:ext cx="3809880" cy="3109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ging of 2 thun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Work still 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End of my ‘stage’ is 31-12-0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cleaning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inishing the ‘add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ebugging a b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cleaning the C-cod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bcbcb"/>
                </a:solidFill>
                <a:latin typeface="Times New Roman"/>
              </a:rPr>
              <a:t>What needs to be implemented y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Jit-part of the jit comp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eeds to be extended with other 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Introduction of my the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Jit-compilatie in continuatie gebaseerde tal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Jit-compilation is used in byte code interpre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Can Pico use Jit-compil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How will we split continuations - when will we merge continu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Partial evalu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Type Inferenc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verview st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troduction of my thesis : ‘Jit-compilatie in continuatie gebaseerde talen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Sta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What have I don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How does it work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fficultie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Work still to d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What needs to be implemented yet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What have I do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made a representation of a nativ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ffffff"/>
                </a:solidFill>
                <a:latin typeface="Arial"/>
              </a:rPr>
              <a:t>(ADD,add,nbr(a),nbr(b),{return(nbr(Ccode(+(a,b))))}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serted types in Pico (nbr, frc, tx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serted misc in Pico (C-code, noeval, return, ..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This representation will be compiled to Ansi C-cod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Why Ansi C-code? -&gt;OS independ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How does it wo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we have our repre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this representation will be precompi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this precompiled code will be merged with other precompiled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inally the merged code will be compiled to C-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How does it wo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All variables are rename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aming of the thunks is a little algorith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Precompil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put : </a:t>
            </a:r>
            <a:r>
              <a:rPr b="1" lang="nl-NL" sz="2100" spc="-1" strike="noStrike">
                <a:solidFill>
                  <a:srgbClr val="ffffff"/>
                </a:solidFill>
                <a:latin typeface="Arial"/>
              </a:rPr>
              <a:t>precompile_native(“ADD,”add,nbr(c),nbr(d),{return(nbr(Ccode(+(c,d))))}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utput : </a:t>
            </a:r>
            <a:r>
              <a:rPr b="1" lang="nl-NL" sz="2100" spc="-1" strike="noStrike">
                <a:solidFill>
                  <a:srgbClr val="ffffff"/>
                </a:solidFill>
                <a:latin typeface="Arial"/>
              </a:rPr>
              <a:t>{(ADD,add,[nbr(a),nbr(b)],thunk(thunkname,return(nbr(+(nbr(a),nbr(b))))))}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Mer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put :</a:t>
            </a:r>
            <a:r>
              <a:rPr b="1" lang="nl-NL" sz="2100" spc="-1" strike="noStrike">
                <a:solidFill>
                  <a:srgbClr val="ffffff"/>
                </a:solidFill>
                <a:latin typeface="Arial"/>
              </a:rPr>
              <a:t> merge({(ADD,add,[nbr(a),nbr(b)],thunk(thunkname,return(nbr(+(nbr(a),nbr(b))))))}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utput : </a:t>
            </a:r>
            <a:r>
              <a:rPr b="1" lang="nl-NL" sz="2100" spc="-1" strike="noStrike">
                <a:solidFill>
                  <a:srgbClr val="ffffff"/>
                </a:solidFill>
                <a:latin typeface="Arial"/>
              </a:rPr>
              <a:t>{(thunk(ADD,[arg,siz,exp],switch[2,goto(ADD21)]),2, thunk(ADD21,[a,b],eval(a),goto(ADD22)), thunk(ADD22,[a,b], eval(b), goto(ADD22S)), 1, thunk(ADD22S,[a,b],if(&amp;(_ag_is_NBR_(a),_ag_is_NBR_(b)), insert(ADD2211))))), thunk(ADD2211,[a,b],return(nbr(+(nbr(a),nbr(b))))))}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505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10:24:41Z</dcterms:created>
  <dc:creator>Administrator</dc:creator>
  <dc:description/>
  <dc:language>en-US</dc:language>
  <cp:lastModifiedBy>Administrator</cp:lastModifiedBy>
  <dcterms:modified xsi:type="dcterms:W3CDTF">2001-12-21T10:33:21Z</dcterms:modified>
  <cp:revision>8</cp:revision>
  <dc:subject/>
  <dc:title>Jit-compiling in Pico</dc:title>
</cp:coreProperties>
</file>